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B9A4-871E-4BF0-9D43-DA0C85BBEA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E4A6-A1B9-4C09-AC80-1BA15EC774C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89F-F2A1-439F-9606-5665328C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0C4-E1A8-4034-8AB3-20E3E2E1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650-FF04-4E0F-B880-26D1CDA5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7E4-B8FB-4518-89E4-73328232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DE1-FF1E-414D-AA80-EE308451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612-AD14-4ED0-BAA3-B0D09484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EA6-D311-48A6-8BDB-F0474A5B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B06-806E-4A29-8FE8-4E3C95D3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111-4040-44DD-8DF4-9A717DDE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EFA-5ADF-4BAC-8A56-9092040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087-419D-4FB8-8B2B-6E6B61E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DEB-C9F5-4A3B-9C33-27B7A2C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02EA-5801-4BBD-819E-04E8C779F2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2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bkierps.UMG\AppData\Local\Microsoft\Windows Live Mail\WLMDSS.tmp\WLMCD00.tmp\TloPrezentacji1712_glowna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rostokąt zaokrąglony 5"/>
          <p:cNvSpPr/>
          <p:nvPr/>
        </p:nvSpPr>
        <p:spPr>
          <a:xfrm>
            <a:off x="4330800" y="2959200"/>
            <a:ext cx="4176720" cy="914400"/>
          </a:xfrm>
          <a:prstGeom prst="roundRect">
            <a:avLst>
              <a:gd name="adj" fmla="val 16667"/>
            </a:avLst>
          </a:prstGeom>
          <a:solidFill>
            <a:srgbClr val="ff2d2d"/>
          </a:solidFill>
          <a:ln w="25560">
            <a:solidFill>
              <a:srgbClr val="ff2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6"/>
          <p:cNvSpPr/>
          <p:nvPr/>
        </p:nvSpPr>
        <p:spPr>
          <a:xfrm>
            <a:off x="4392720" y="2736720"/>
            <a:ext cx="47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Sprawozd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z wykonania budże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gminy Gostyń za rok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P:\UMDoc\KS\KOMUNIKACJA_SPOLECZNA\PROMOCJA_2017\PrezentacjeBurmistrza\TloPrezentacji1712.tif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Znalezione obrazy dla zapytania wykres png"/>
          <p:cNvPicPr/>
          <p:nvPr/>
        </p:nvPicPr>
        <p:blipFill>
          <a:blip r:embed="rId2"/>
          <a:stretch/>
        </p:blipFill>
        <p:spPr>
          <a:xfrm>
            <a:off x="5792760" y="1052640"/>
            <a:ext cx="3111480" cy="2663640"/>
          </a:xfrm>
          <a:prstGeom prst="rect">
            <a:avLst/>
          </a:prstGeom>
          <a:ln w="0">
            <a:noFill/>
          </a:ln>
        </p:spPr>
      </p:pic>
      <p:sp>
        <p:nvSpPr>
          <p:cNvPr id="57" name="pole tekstowe 3"/>
          <p:cNvSpPr/>
          <p:nvPr/>
        </p:nvSpPr>
        <p:spPr>
          <a:xfrm>
            <a:off x="250920" y="765000"/>
            <a:ext cx="864216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wykonania budżetu wynika, ż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Dochod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nosił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170,1 mln z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Wyd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nosił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150,6 mln z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cja dochodów zakończyła się bardzo dobrym wskaźnikiem 103,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datki zrealizowano w 96,4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P:\UMDoc\KS\KOMUNIKACJA_SPOLECZNA\PROMOCJA_2017\PrezentacjeBurmistrza\TloPrezentacji1712.tif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3"/>
          <p:cNvSpPr/>
          <p:nvPr/>
        </p:nvSpPr>
        <p:spPr>
          <a:xfrm>
            <a:off x="250920" y="765000"/>
            <a:ext cx="864216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udżet uchwalony przez Radę Miejską, po uwzględnieniu zmian dokonanych w ciągu roku, przewidywa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Dochod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 wysokośc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163,8 mln z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Wyd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 wysokości blisk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156,1 mln z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P:\UMDoc\KS\KOMUNIKACJA_SPOLECZNA\PROMOCJA_2017\PrezentacjeBurmistrza\TloPrezentacji1712.tif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3"/>
          <p:cNvSpPr/>
          <p:nvPr/>
        </p:nvSpPr>
        <p:spPr>
          <a:xfrm>
            <a:off x="250920" y="765000"/>
            <a:ext cx="864216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Różnica między dochodami, a wydatkami wynios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19.502.628,68 zł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 stanowiła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nadwyżkę budżetu w 2021 ro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Zobowiąza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gminy z tytułu kredytów wynosz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2,9%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wykonanych w roku 20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ochodów ogółe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Znalezione obrazy dla zapytania pieni&amp;aogon;dze  png"/>
          <p:cNvPicPr/>
          <p:nvPr/>
        </p:nvPicPr>
        <p:blipFill>
          <a:blip r:embed="rId2"/>
          <a:stretch/>
        </p:blipFill>
        <p:spPr>
          <a:xfrm>
            <a:off x="5003640" y="2565360"/>
            <a:ext cx="360396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Picture 2" descr="P:\UMDoc\KS\KOMUNIKACJA_SPOLECZNA\PROMOCJA_2017\PrezentacjeBurmistrza\TloPrezentacji1712.tif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70" name="pole tekstowe 3"/>
          <p:cNvSpPr/>
          <p:nvPr/>
        </p:nvSpPr>
        <p:spPr>
          <a:xfrm>
            <a:off x="250920" y="765000"/>
            <a:ext cx="864216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ochody w 2021 roku pochodziły 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54,5% z dochodów własnych, w tym 27,6% stanowiły udziały w podatku dochodowym od osób fizycznych i praw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9,7% z dotacji na zadania zlecone oraz na dofinansowanie zadań własn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tym 65,5% na realizację programu „500+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5,8% z subwencji, w tym 13,6% z subwencji oświatow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 roku 2021 najwięcej środków przeznaczono m.in.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tę i wychowanie (32,8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dania z zakresu opieki społecznej (38,6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ólnie pojętą kulturę i kulturę fizyczną (8,1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rogi (7,8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ospodarkę komunalną (4,9%)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C:\Users\bkierps.UMG\AppData\Local\Microsoft\Windows Live Mail\WLMDSS.tmp\WLM13A5.tmp\TloPrezentacji1712_ostatn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8T10:35:59Z</dcterms:created>
  <dc:creator>jptak</dc:creator>
  <dc:description/>
  <dc:language>en-US</dc:language>
  <cp:lastModifiedBy>Monika Wozik</cp:lastModifiedBy>
  <cp:lastPrinted>2021-06-11T10:59:50Z</cp:lastPrinted>
  <dcterms:modified xsi:type="dcterms:W3CDTF">2022-07-06T14:51:33Z</dcterms:modified>
  <cp:revision>177</cp:revision>
  <dc:subject/>
  <dc:title>Slajd 1</dc:title>
</cp:coreProperties>
</file>